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38C3-E3CD-4C34-A20E-0838E8EA6D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8DAB-8673-4A19-8C0D-7CE369A06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CB7F-4D5F-43D6-8866-57F28C570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FC47-86E3-45C3-958E-34B146AF4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6848-1131-455E-8123-D8A3BF5E2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7996-10C5-48E0-8214-EE25E6D53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BCD6-A5D3-483D-9589-EA7EA205E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D3A5-4459-426B-A006-AD2EFBD68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F406-E645-49D5-8296-0AB81E425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2DD5-EE66-4E46-BEE4-1AFCF582F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35BE-147F-44B3-8933-001D4FF2E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7821-EBEF-4F3E-B7FD-783F13B65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C77C-9620-4122-B62A-8DB258859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7E46-B9BC-4209-B492-561BFF2CE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4DA4-C566-4F42-8089-1FBCC38AC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F5FD-1145-4139-B631-CE5E2493D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AED5-69A0-4090-AF6E-D80F2A134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FB1F-A503-4654-9C35-A9B9706E1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79B5-12C1-4030-90A7-14363DAE07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E27F-0C84-461B-AF81-B357DC7CA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3044-E2C5-44CD-8CF9-42356ADBE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64D4-AB6A-4688-B99E-1A009ED63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F55C-37B6-4B51-93A4-26F49B401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E5E9-29F4-4FBA-9227-BEB9E2F9B2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3BC2-2880-4B45-B54D-D8B502F49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9834-6EC0-4BDD-99B4-049DB9D40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A434-A43C-4E88-97B0-AB513214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F57B-1075-42E4-9937-A2AB7953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8784E-8A94-416C-A440-34CD1010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E0749-82B2-4E93-A110-4A71AAB2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201CA-7AD7-4F45-A925-55BAF29E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7F8B1-BA78-4570-A4E6-E16BA80E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83F69-520F-4BF2-B7FC-8BD6BFAE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B17D7-7649-4A70-898E-2C6D87F7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E9966-AFFF-4079-907D-AB35DB75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44535-425A-48AF-9D35-91FEB2E5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DDBBD-41DD-4695-9F99-039F860E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D2F07-5124-4EBB-9F0E-82999096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870-418D-42B5-ACCB-08F082BF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9188F-9A42-407B-A59C-B9DC4531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5B0D3-9709-41F2-A077-CAFF762C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A2783-0FB5-4085-AB05-7C361BB8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41040-7BBA-4683-99B4-1641B4A6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812F0-31E1-4885-985A-F7F683D3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3A39B-C557-4DDD-868B-641A9B29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88D57-C73D-4501-B005-8C97E203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A9828-0355-4E73-B7DC-07179A06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D91FD-F84D-4317-A91F-640DE9DA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52438-0FFD-4D1C-997F-A7F1D8B5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BFDE-998C-4A1C-9743-5C410BF1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1000E-0926-44D8-9FEE-E5D586C7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B548E-4EAC-45EE-BADA-3EE21143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01309-98BB-4F43-8EC9-AA9CD286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39EAA-13EF-4A79-AF2C-316EFA4F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312EF-1FF8-47BF-A0C6-E1F13739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CD268-00E4-4914-BD98-3942789B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0095F-CF59-42A0-8A9D-B0B053F9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76C2E-5F98-4DF7-8E08-83BD14E6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23BB3-125A-4CCA-82C1-D7D6A155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AC8CF-4069-435E-9621-DC51F353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F2AB-9D05-44F5-AB5F-C9480454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6BA4C-0DB9-40FA-9AB3-ADDEB0C0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9AB12-31B2-4C14-B2C0-7B3DF3C7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9F256-2317-4C01-8E76-DCA2FB8A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3FAE3-DD05-4E74-9ADC-660711C1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C1738-0A8C-42C1-9A6F-D0FD69A0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7D7D8-26D7-40C5-9FD2-4BE4181F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DCD5A-2325-4E86-8214-0D36FD41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26AFE-6114-498D-8E64-FC31C561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8B175-673A-495D-944B-D563F1E7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C2ED6-039A-4BE2-A202-2C85C8AC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FA2D-C99C-4230-9E4D-DE142FBD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60212-CBD9-4601-BEB4-FAF0A8CE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EF1B2-BB44-48B3-A752-BAA5296A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8AD9F-4B61-413E-8BB7-733A5E1F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3D1AE-9B85-4106-8D5F-8BD5120B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26162-D579-47B0-88FB-80BD76AC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7C8222-D7BD-4880-BCC6-8259D016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3BF865-814B-46E0-9A28-437A3B28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9E0DAF-2E12-40E3-854A-085B37FE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EF39D7-E33B-473F-BE4E-99416136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F3B8C9-B085-48FA-A149-F063A9D1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9316-5962-4009-B509-65BFBB71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00DB9-0162-475D-99F8-7733E89C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EAEC5-C673-4690-AF93-584B00BD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F13D6-C5D2-440E-90FD-5E60E4B1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C6BA40-E321-4952-9DBD-708961AF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B272FA-5C83-4E20-8306-710E8219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5CCCF2-F3E7-4E31-A110-CB3D4661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050130-4B72-4CD0-BBA2-314CDC35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0F0DE0-8D6D-47D8-853C-5B6C4B9F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393624-C8D7-48AB-9369-E439FAB9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324A2B-4C86-4211-BE52-E9F6F142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D3AA-77F8-409F-BD85-6E34B8E7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58989-D194-4BE3-B742-D265C0E5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2606FC-6E62-4B24-AC68-4D5545C7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C9A739-A041-408C-89B5-0A4AFD97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FAF24D-0860-4C71-98DF-22AF209E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FCDA28-67B6-4ECE-9546-9CA54327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C4232C-46E9-4A50-9F3B-01E47F8E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635882-8ACD-4705-B602-ADF88652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54124-756A-49A7-94FD-B668D98A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62154-D140-4A5A-8C5F-3162652D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F5B9A2-1481-4C22-92A4-21D96052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98FF-1F9B-402C-BADE-51E92895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ABAE0B-D824-4021-BDC2-38D35200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8427C9-0FD4-42ED-8786-E28985E7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316E40-8F6A-457A-AACB-5C3D15B5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9E3784-7B8D-464A-BFEF-22AF3860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B5BBFC-DAC1-49FD-88D0-D37D5500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0BEBBA-233D-4D3E-ABC8-A0D10FF0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7789E0-0F82-4380-A7C0-FADF4647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118658-1B98-4B44-B837-CE614E5E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51F863-019B-414F-AD04-E50EFC37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E41A92-B45D-4873-8E63-C95DA9B3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611C-2BAA-4F53-901B-ED77CB8D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D5704E-7C84-423A-B48E-FA03CF7E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E845AB-4244-4B11-A9A0-166147F6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99B057-7F65-4272-AF40-9F9D0277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855332-C1A5-4EA0-96BB-0C6755FB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7CA33C-B828-4DB9-ACDC-F84AC626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CD4675-13DE-4A14-BC02-1D402A8F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595D70-828D-47C6-947E-0208232D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65C82A-68AE-4C17-9DA6-16E65551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D93535-1B03-442F-93AA-59C80F86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E2DBFA-0ACA-4766-9AF0-37BDB7D0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4965-8A22-48EE-B681-8F61DFDC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D6E763-07DD-42C0-BCD5-E06830EB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C707BF-F7AC-40F9-872D-63DCEDB9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666342-A571-4FC3-914A-9DFBBC16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51A631-190A-4AB2-8F53-444079B4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3D00FA-E39B-435E-9DF9-AB86D66A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249D35-CB85-461D-831D-CF691845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29E010-52BA-4150-B735-512ED483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1D46C8-CB2F-4788-952D-EE3E0671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CFFF6F-8D98-4EEC-9EE2-786BE9B2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7D7489-B53D-4332-BD90-77EED748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6EE-B3C8-410C-B28E-A2C17C7D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E102-A5ED-4FBF-BF84-B98B6D05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74A2DB-EAF1-4CC4-A06F-0E04F270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091686-AE5B-48E7-9419-2A17247D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9FF50C-4040-4223-94A8-1BB7CBC2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CA4DB9-8FA7-412E-8924-10BFC07D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0F3725-EE2A-43B8-AA51-E88961B8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8F8B-1C98-4BEC-9173-A41DDE66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57C7-E682-4E61-8582-6B933FEC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8E0E-844C-444E-BFEF-F4C7FA6C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E940-4E35-4461-AF15-762273AF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2C661-4631-4BC3-9EF6-906CE21D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035C7-773A-495A-8681-5A4E6168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73D44-FF44-4884-BFB7-2552C371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5F96E-F53E-4C36-AB41-2C4EBACA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94A43-A709-4D4B-9557-DC7AE0F4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5FA-179E-406D-9EE2-32D1BDCE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F446A-9980-4301-A139-70AFF600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17F37-D81A-4DAD-BE57-07B5AEE8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EAC51-1419-4964-B9EF-4B7EEB7A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8BE4A-861B-4A9C-912C-DC46AF1F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B8DAE-1E92-4FD2-9057-E96247CC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23BF4-AF48-4103-B591-79D1A6D5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C86F7-3069-4714-BF42-AE02B360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879F1-41FE-4E3A-8689-298AC3C7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CDF64-4D2D-4E39-B16D-91E2EE19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F21AA-3987-401A-B785-4B656F67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DA93-EFC9-4724-B8FA-1432CC21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AA663-7406-4A1A-961E-68BF76E1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E02D3-4004-4B7A-8FBE-0D8FAFBE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E9CD4-261A-477E-9880-0A336A71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5F989-4A37-48D0-9595-67914BD9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68F48-0423-411C-97C5-C6412041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2946A-C797-4E86-9484-8B4F1CA6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82DA2-D911-498A-AE6C-129051D3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69F7E-5EC4-48F0-BD30-1BB11195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C8253-F7F9-40CC-9892-A6C9A329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2D1E6-E450-4E75-81D1-3D37FED2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429C-4BB2-497B-933F-8C869D9B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D64CE-9070-417C-952D-F73B12A9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7BC4F-D909-4211-87AB-E93A5795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73974-6523-48C6-8556-4F15F398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4DC88-E872-467E-8A12-2B64E0CA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CCCAB-505B-4DFD-BF1F-6D5B6F43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85EAD-B8AF-44E0-BD24-88799ED7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0670C-DED5-4476-9B33-86C17A6F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0715A-8D42-4C23-9722-5EA1A207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E1124-0F1A-4FD2-BBF6-9F61E9DD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EDC2D-0004-49FE-AF02-2E30150D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C70D-8490-4685-91C4-9D088AB0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62C71-9D35-4435-8097-B6583C21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13127-C18F-4BFC-82ED-D7C29262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568B0-983C-405C-A17B-464EEBF2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5EF5B-679C-4DB4-86BD-7F5BF4BD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52086-9F8C-4B2B-8104-ED5CEBD0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B4EA6-C804-4415-A26E-64175DB8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6D45B-D6EC-46D3-9B75-038FEB1F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EE48F-149B-4C44-A18E-A8CD8915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5B6F6-3CF0-4FF7-83AB-5A96A7B8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70AB5-A57D-4ECD-ABD2-19EB86D8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E382-20D4-46CE-82E9-46D420E4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A1176-0D04-4D35-8DE9-940F3FAE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06071-A3B1-4665-B627-2725C190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09DCD-E577-411B-9BAF-81D37881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E4A94-3751-4DAB-B5D5-B101BBD4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3CEEA-C984-4F64-BB0E-F66A723C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7B7C6-4464-4534-A809-6B60D5A4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FCBE3-878A-4B20-81AA-26D444B2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61762-92A1-4BD5-A3A6-B008CBFB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BFB0E-B726-48EA-B3C8-94C2A977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B6568-6CC8-4C7C-82C3-56E67EAB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D579-E724-4AB5-AFDD-61188F34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D3294-B0AF-4693-A078-FF50FCCA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0D308-0546-46DA-8250-7B572486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C2D60-B3C1-4D0F-B265-AEF6C8BA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8740B-646E-41AB-B07F-4DE55E83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1CB50-3B03-4629-BD38-B8A8FF0E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608E3-2F27-4769-81D4-6EAE0C53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AB855-B634-495A-8C9C-A52599AA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7BE64-F2AE-45FB-9317-10BB56F0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DCCA4-1E5D-46B5-A4D9-E4EDB8FD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EB8EC-90F7-4BBD-8A7E-1D33F8DA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1FA7-E71F-4856-9242-5D845580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17AD8-7541-4EDE-97A8-AEC9B59E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675FD-1D49-4529-88BD-DE499383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CF1C3-B65E-4869-B71C-FDBD3CA3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669BD-6874-401E-AF92-2D61BDF9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BE6DB-FBBB-4120-86FE-63848199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5C042-4798-493C-BADC-CCBD9CB0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18EB4-3511-48F6-9637-7924586E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DF50B-1C8A-45E1-9896-C4C85879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F6323-99A7-425C-B9B7-7EF6245C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7AFA9-815E-450B-BF77-F5AFA6E6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141A-4BA0-4A58-8280-8183A8E4605B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FDD4-91F3-4FCE-9264-D44BA0B580B3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15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2356-340D-40DA-BE07-A2C15A1427E6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98C2-470D-4981-B36F-64A5E93E6AD7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60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D2E6-DC61-4F3D-B907-012C44E3929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B023-483A-41AE-B61A-D4577B08C4EC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506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61B3-A6AC-4BAA-9A78-B14C63A05A20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1734-AB4E-44E0-88CE-C81FD6BEC387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8"/>
          <p:cNvGrpSpPr/>
          <p:nvPr/>
        </p:nvGrpSpPr>
        <p:grpSpPr>
          <a:xfrm>
            <a:off x="284040" y="4280040"/>
            <a:ext cx="8575920" cy="137880"/>
            <a:chOff x="284040" y="4280040"/>
            <a:chExt cx="8575920" cy="137880"/>
          </a:xfrm>
        </p:grpSpPr>
        <p:sp>
          <p:nvSpPr>
            <p:cNvPr id="551" name="Rectangle 7"/>
            <p:cNvSpPr/>
            <p:nvPr/>
          </p:nvSpPr>
          <p:spPr>
            <a:xfrm>
              <a:off x="284040" y="4280040"/>
              <a:ext cx="2743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3025800" y="4280040"/>
              <a:ext cx="1600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4626000" y="428004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719C-CBF7-41EA-BE45-AF7963745BCA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B6C4-58CB-47ED-A40B-E5A72DA5E44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284040" y="4267080"/>
            <a:ext cx="2743200" cy="212112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4"/>
          <p:cNvGrpSpPr/>
          <p:nvPr/>
        </p:nvGrpSpPr>
        <p:grpSpPr>
          <a:xfrm>
            <a:off x="284040" y="461880"/>
            <a:ext cx="8575920" cy="136440"/>
            <a:chOff x="284040" y="461880"/>
            <a:chExt cx="8575920" cy="136440"/>
          </a:xfrm>
        </p:grpSpPr>
        <p:sp>
          <p:nvSpPr>
            <p:cNvPr id="597" name="Rectangle 8"/>
            <p:cNvSpPr/>
            <p:nvPr/>
          </p:nvSpPr>
          <p:spPr>
            <a:xfrm>
              <a:off x="284040" y="461880"/>
              <a:ext cx="274320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9"/>
            <p:cNvSpPr/>
            <p:nvPr/>
          </p:nvSpPr>
          <p:spPr>
            <a:xfrm>
              <a:off x="3025800" y="461880"/>
              <a:ext cx="1600200" cy="13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4626000" y="461880"/>
              <a:ext cx="4233960" cy="136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115D-02BB-4A68-A80E-09654C7B5D58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6908-3114-4ED5-9BB5-4707BC8860D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3021120" y="4802040"/>
            <a:ext cx="583704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643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79E4-19F2-4859-9CD2-A184DE973070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D79A-53E6-424A-A970-A1E8CC9D0668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689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4A77-3BCF-40CA-8D41-C1D0FC045F9D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67E0-1910-478F-B884-15D909F071EA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 rot="5400000">
            <a:off x="5313600" y="2856600"/>
            <a:ext cx="5934240" cy="1135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7556400" y="457200"/>
            <a:ext cx="138240" cy="5934240"/>
            <a:chOff x="7556400" y="457200"/>
            <a:chExt cx="138240" cy="5934240"/>
          </a:xfrm>
        </p:grpSpPr>
        <p:sp>
          <p:nvSpPr>
            <p:cNvPr id="735" name="Rectangle 8"/>
            <p:cNvSpPr/>
            <p:nvPr/>
          </p:nvSpPr>
          <p:spPr>
            <a:xfrm rot="5400000">
              <a:off x="7072200" y="941040"/>
              <a:ext cx="11062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 rot="5400000">
              <a:off x="6676920" y="2444760"/>
              <a:ext cx="1897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0"/>
            <p:cNvSpPr/>
            <p:nvPr/>
          </p:nvSpPr>
          <p:spPr>
            <a:xfrm rot="5400000">
              <a:off x="6161040" y="4857840"/>
              <a:ext cx="2928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B932-660C-415E-9A5A-EE3193B2E0BF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C8EE-1592-456C-8359-2CA40E791A0F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43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84040" y="6227640"/>
            <a:ext cx="8574120" cy="17316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BB30-EC0B-415B-91B6-7CD823E88D4B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15AE-5A07-4D1D-9F66-C8E8454AF0FD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91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4CB3-9F83-4979-8B94-27E4C113589A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D575-0D05-4C6F-A067-7968E60B776D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137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8131-7E2F-4E7D-9FAB-525DE3F688FF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A704-514C-4673-9730-2D4B6C4244C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8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184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8501-9DAD-449F-9ACD-6B8EFFB7CD71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2D6A-3FD4-46CE-86AB-5CC65A23271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231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14B5-2CD6-43CD-AB6C-DA68BD570BF1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CDCE-A6CE-489B-BA0B-4902E27EC34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278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9D1D-1655-4B17-A735-C3448E4FBB31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1108-3840-493C-8735-99CBEE5856BF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24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87CE-5C8E-4D9C-A282-2094206C0D64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D63C-5F8F-44D4-8815-7B4C5CC33E3D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70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38B8-AE4E-40AB-B2AF-3A23CB845748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BA20-F29B-411D-9A76-137817B2D2D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Warm-Up / EOC Prep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228240" y="1706040"/>
            <a:ext cx="80010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1. Carbohydrates are made of carbon, hydrogen, and ______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 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A. Oxygen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B. Phosphorus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C. Argon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D. Nitrogen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2. Which organic molecule is used for transport and repair in the body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A. Lipids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B. Proteins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C. Carbohydrates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D. Nucleic acids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2" descr="enzyme"/>
          <p:cNvPicPr/>
          <p:nvPr/>
        </p:nvPicPr>
        <p:blipFill>
          <a:blip r:embed="rId1"/>
          <a:stretch/>
        </p:blipFill>
        <p:spPr>
          <a:xfrm>
            <a:off x="4114800" y="2217600"/>
            <a:ext cx="4724280" cy="273528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nzym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1920" y="18493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2920" indent="-412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Enzymes bind </a:t>
            </a:r>
            <a:r>
              <a:rPr b="1" lang="en-US" sz="2800" spc="-1" strike="noStrike" u="sng">
                <a:solidFill>
                  <a:srgbClr val="262626"/>
                </a:solidFill>
                <a:uFillTx/>
                <a:latin typeface="Calibri"/>
              </a:rPr>
              <a:t>substrates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 (enzyme reactant) into </a:t>
            </a:r>
            <a:r>
              <a:rPr b="1" lang="en-US" sz="2800" spc="-1" strike="noStrike" u="sng">
                <a:solidFill>
                  <a:srgbClr val="262626"/>
                </a:solidFill>
                <a:uFillTx/>
                <a:latin typeface="Calibri"/>
              </a:rPr>
              <a:t>active sites (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pocket or groove on enzyme)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12920" indent="-412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While the enzyme and the substrate are joined, the enzyme catalyzes the reaction and converts the substrate to the </a:t>
            </a:r>
            <a:r>
              <a:rPr b="1" lang="en-US" sz="2800" spc="-1" strike="noStrike" u="sng">
                <a:solidFill>
                  <a:srgbClr val="262626"/>
                </a:solidFill>
                <a:uFillTx/>
                <a:latin typeface="Calibri"/>
              </a:rPr>
              <a:t>product(s)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nzym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533520" y="198072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62626"/>
                </a:solidFill>
                <a:latin typeface="Calibri"/>
              </a:rPr>
              <a:t>The most classic example an enzymatic reaction is the hydrolysis of sucrose (table sugar) into glucose and fructose. </a:t>
            </a:r>
            <a:endParaRPr b="0" lang="en-US" sz="3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53" name="Picture 4" descr="practi22"/>
          <p:cNvPicPr/>
          <p:nvPr/>
        </p:nvPicPr>
        <p:blipFill>
          <a:blip r:embed="rId1"/>
          <a:stretch/>
        </p:blipFill>
        <p:spPr>
          <a:xfrm>
            <a:off x="380880" y="3962520"/>
            <a:ext cx="8382240" cy="192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Picture 2" descr="FG28_21"/>
          <p:cNvPicPr/>
          <p:nvPr/>
        </p:nvPicPr>
        <p:blipFill>
          <a:blip r:embed="rId1"/>
          <a:stretch/>
        </p:blipFill>
        <p:spPr>
          <a:xfrm>
            <a:off x="146160" y="1700280"/>
            <a:ext cx="8769240" cy="4395600"/>
          </a:xfrm>
          <a:prstGeom prst="rect">
            <a:avLst/>
          </a:prstGeom>
          <a:ln w="0">
            <a:noFill/>
          </a:ln>
        </p:spPr>
      </p:pic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nzym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62626"/>
                </a:solidFill>
                <a:latin typeface="Calibri"/>
              </a:rPr>
              <a:t>Another look… </a:t>
            </a:r>
            <a:endParaRPr b="0" lang="en-US" sz="3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1430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0000"/>
                </a:solidFill>
                <a:latin typeface="Corbel"/>
              </a:rPr>
              <a:t>Factors Affecting Enzyme Activity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libri"/>
              </a:rPr>
              <a:t>1. </a:t>
            </a:r>
            <a:r>
              <a:rPr b="0" lang="en-US" sz="4800" spc="-1" strike="noStrike" u="sng">
                <a:solidFill>
                  <a:srgbClr val="262626"/>
                </a:solidFill>
                <a:uFillTx/>
                <a:latin typeface="Calibri"/>
              </a:rPr>
              <a:t>Temperature</a:t>
            </a:r>
            <a:endParaRPr b="0" lang="en-US" sz="4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libri"/>
              </a:rPr>
              <a:t>2. </a:t>
            </a:r>
            <a:r>
              <a:rPr b="0" lang="en-US" sz="4800" spc="-1" strike="noStrike" u="sng">
                <a:solidFill>
                  <a:srgbClr val="262626"/>
                </a:solidFill>
                <a:uFillTx/>
                <a:latin typeface="Calibri"/>
              </a:rPr>
              <a:t>pH</a:t>
            </a:r>
            <a:endParaRPr b="0" lang="en-US" sz="4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libri"/>
              </a:rPr>
              <a:t>3. Enzyme Concentration</a:t>
            </a:r>
            <a:endParaRPr b="0" lang="en-US" sz="4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libri"/>
              </a:rPr>
              <a:t>4. Substrate Concentration</a:t>
            </a:r>
            <a:endParaRPr b="0" lang="en-US" sz="4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ffects on Enzyme Activity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</a:rPr>
              <a:t>Rate of Enzyme Activity is influenced by: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62626"/>
                </a:solidFill>
                <a:uFillTx/>
                <a:latin typeface="Calibri"/>
              </a:rPr>
              <a:t>Substrate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 concentration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 (more substrate = more activity until saturation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Temperature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 (higher temperature = more activity until the enzyme’s protein denatures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61" name="Object 2" descr=""/>
          <p:cNvPicPr/>
          <p:nvPr/>
        </p:nvPicPr>
        <p:blipFill>
          <a:blip r:embed="rId1"/>
          <a:stretch/>
        </p:blipFill>
        <p:spPr>
          <a:xfrm>
            <a:off x="1676520" y="4191120"/>
            <a:ext cx="624816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ffects on Enzyme Activity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52280" y="184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</a:rPr>
              <a:t>Rate of Enzyme Activity is influenced by: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pH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 (usually in range of 6-8 for humans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62626"/>
                </a:solidFill>
                <a:uFillTx/>
                <a:latin typeface="Calibri"/>
              </a:rPr>
              <a:t>Inhibitors</a:t>
            </a:r>
            <a:r>
              <a:rPr b="0" lang="en-US" sz="2800" spc="-1" strike="noStrike" u="sng">
                <a:solidFill>
                  <a:srgbClr val="262626"/>
                </a:solidFill>
                <a:uFillTx/>
                <a:latin typeface="Calibri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(reduce activity by binding or changing shape of active sites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864" name="Group 4"/>
          <p:cNvGrpSpPr/>
          <p:nvPr/>
        </p:nvGrpSpPr>
        <p:grpSpPr>
          <a:xfrm>
            <a:off x="533520" y="3978360"/>
            <a:ext cx="8305200" cy="2651040"/>
            <a:chOff x="533520" y="3978360"/>
            <a:chExt cx="8305200" cy="2651040"/>
          </a:xfrm>
        </p:grpSpPr>
        <p:pic>
          <p:nvPicPr>
            <p:cNvPr id="865" name="Object 2" descr=""/>
            <p:cNvPicPr/>
            <p:nvPr/>
          </p:nvPicPr>
          <p:blipFill>
            <a:blip r:embed="rId1"/>
            <a:stretch/>
          </p:blipFill>
          <p:spPr>
            <a:xfrm>
              <a:off x="1752480" y="4248360"/>
              <a:ext cx="4800240" cy="23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Text Box 6"/>
            <p:cNvSpPr/>
            <p:nvPr/>
          </p:nvSpPr>
          <p:spPr>
            <a:xfrm>
              <a:off x="6629040" y="3978360"/>
              <a:ext cx="220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Alkaline Intes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7"/>
            <p:cNvSpPr/>
            <p:nvPr/>
          </p:nvSpPr>
          <p:spPr>
            <a:xfrm>
              <a:off x="533520" y="437508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Acidic Stoma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8"/>
            <p:cNvSpPr/>
            <p:nvPr/>
          </p:nvSpPr>
          <p:spPr>
            <a:xfrm flipV="1">
              <a:off x="5714640" y="4419360"/>
              <a:ext cx="9903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9"/>
            <p:cNvSpPr/>
            <p:nvPr/>
          </p:nvSpPr>
          <p:spPr>
            <a:xfrm flipH="1" flipV="1">
              <a:off x="1752120" y="4800240"/>
              <a:ext cx="129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nzymes: Fun Fact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Enzymes work </a:t>
            </a:r>
            <a:r>
              <a:rPr b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quickly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—about </a:t>
            </a:r>
            <a:r>
              <a:rPr b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1000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 substrates are taken in and converted every second.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nzyme Video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f0000"/>
              </a:solidFill>
              <a:latin typeface="Corbe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view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f0000"/>
              </a:solidFill>
              <a:latin typeface="Corbe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type of organic molecule are enzyme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agenda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457200" y="1851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Warm-up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Not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Video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Organic Molecules Review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Pepsin/Trypsin W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Sta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lean-up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ol-dow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8" name="TextBox 3"/>
          <p:cNvSpPr/>
          <p:nvPr/>
        </p:nvSpPr>
        <p:spPr>
          <a:xfrm>
            <a:off x="3733920" y="47242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iz on Organic Molecules &amp; Enzymes TOMORROW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f0000"/>
              </a:solidFill>
              <a:latin typeface="Corbe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otei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f0000"/>
              </a:solidFill>
              <a:latin typeface="Corbe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ow do enzymes speed up reaction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f0000"/>
              </a:solidFill>
              <a:latin typeface="Corbe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wer activation energ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f0000"/>
              </a:solidFill>
              <a:latin typeface="Corbe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material that the enzyme works on is called the…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f0000"/>
              </a:solidFill>
              <a:latin typeface="Corbe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bstrat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f0000"/>
              </a:solidFill>
              <a:latin typeface="Corbe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location of the reaction on the enzyme is called the…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f0000"/>
              </a:solidFill>
              <a:latin typeface="Corbe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ctivation sit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f0000"/>
              </a:solidFill>
              <a:latin typeface="Corbe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four factors affect enzymes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f0000"/>
              </a:solidFill>
              <a:latin typeface="Corbe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emperatur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mount of enzy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mount of substrat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Exit ticket</a:t>
            </a: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380880" y="2133720"/>
            <a:ext cx="84772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0280" indent="-440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On your notecard, answer the following questions without using your notes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40280" indent="-440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40280" indent="-440280">
              <a:spcBef>
                <a:spcPts val="2001"/>
              </a:spcBef>
              <a:buClr>
                <a:srgbClr val="a6a6a6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Name at least 2 factors that affect enzymes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40280" indent="-440280">
              <a:spcBef>
                <a:spcPts val="2001"/>
              </a:spcBef>
              <a:buClr>
                <a:srgbClr val="a6a6a6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40280" indent="-440280">
              <a:spcBef>
                <a:spcPts val="2001"/>
              </a:spcBef>
              <a:buClr>
                <a:srgbClr val="a6a6a6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What do enzymes do for the body? (ie. why do we need them?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40280" indent="-44028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20480" y="448920"/>
            <a:ext cx="780876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nzym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75920" y="1531800"/>
            <a:ext cx="775332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uided Notes 18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nzym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2133720"/>
            <a:ext cx="84009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Chemical reactions always involve the breaking of </a:t>
            </a:r>
            <a:r>
              <a:rPr b="1" lang="en-US" sz="2800" spc="-1" strike="noStrike" u="sng">
                <a:solidFill>
                  <a:srgbClr val="262626"/>
                </a:solidFill>
                <a:uFillTx/>
                <a:latin typeface="Calibri"/>
              </a:rPr>
              <a:t>bonds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 in reactants and the formation of new bonds in products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62626"/>
                </a:solidFill>
                <a:uFillTx/>
                <a:latin typeface="Calibri"/>
              </a:rPr>
              <a:t>Reactants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262626"/>
                </a:solidFill>
                <a:uFillTx/>
                <a:latin typeface="Calibri"/>
              </a:rPr>
              <a:t>Products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33" name="Picture 6" descr="helicase"/>
          <p:cNvPicPr/>
          <p:nvPr/>
        </p:nvPicPr>
        <p:blipFill>
          <a:blip r:embed="rId1"/>
          <a:stretch/>
        </p:blipFill>
        <p:spPr>
          <a:xfrm>
            <a:off x="4800600" y="3505320"/>
            <a:ext cx="362124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nzym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5440" y="2133720"/>
            <a:ext cx="81723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62626"/>
                </a:solidFill>
                <a:uFillTx/>
                <a:latin typeface="Calibri"/>
              </a:rPr>
              <a:t>Activation energy</a:t>
            </a:r>
            <a:r>
              <a:rPr b="1" lang="en-US" sz="28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262626"/>
                </a:solidFill>
                <a:latin typeface="Calibri"/>
              </a:rPr>
              <a:t>the energy needed to get the reaction started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36" name="Picture 2" descr="d_rtp66_p51_site_msc"/>
          <p:cNvPicPr/>
          <p:nvPr/>
        </p:nvPicPr>
        <p:blipFill>
          <a:blip r:embed="rId1"/>
          <a:srcRect l="0" t="0" r="0" b="13890"/>
          <a:stretch/>
        </p:blipFill>
        <p:spPr>
          <a:xfrm>
            <a:off x="990720" y="3429000"/>
            <a:ext cx="28810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nzym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228600" y="2057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alibri"/>
              </a:rPr>
              <a:t>Enzymes-</a:t>
            </a:r>
            <a:r>
              <a:rPr b="0" lang="en-US" sz="3600" spc="-1" strike="noStrike">
                <a:solidFill>
                  <a:srgbClr val="262626"/>
                </a:solidFill>
                <a:latin typeface="Calibri"/>
              </a:rPr>
              <a:t> Proteins that act as biological catalysts to speed up chemical reactions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</a:rPr>
              <a:t>Identify many enzymes by the suffix </a:t>
            </a:r>
            <a:r>
              <a:rPr b="1" lang="en-US" sz="4000" spc="-1" strike="noStrike" u="sng">
                <a:solidFill>
                  <a:srgbClr val="262626"/>
                </a:solidFill>
                <a:uFillTx/>
                <a:latin typeface="Calibri"/>
              </a:rPr>
              <a:t>–ase</a:t>
            </a:r>
            <a:r>
              <a:rPr b="0" lang="en-US" sz="3600" spc="-1" strike="noStrike">
                <a:solidFill>
                  <a:srgbClr val="262626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helicase</a:t>
            </a: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 (unzips DNA)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lactase</a:t>
            </a: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 (breaks down lactose)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peptidyl transferase (forms peptide bonds in polypeptides)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nzym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151920" y="175248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2626"/>
                </a:solidFill>
                <a:latin typeface="Calibri"/>
              </a:rPr>
              <a:t>Enzymes </a:t>
            </a:r>
            <a:r>
              <a:rPr b="1" lang="en-US" sz="3000" spc="-1" strike="noStrike" u="sng">
                <a:solidFill>
                  <a:srgbClr val="262626"/>
                </a:solidFill>
                <a:uFillTx/>
                <a:latin typeface="Calibri"/>
              </a:rPr>
              <a:t>speed up </a:t>
            </a:r>
            <a:r>
              <a:rPr b="1" lang="en-US" sz="3000" spc="-1" strike="noStrike">
                <a:solidFill>
                  <a:srgbClr val="262626"/>
                </a:solidFill>
                <a:latin typeface="Calibri"/>
              </a:rPr>
              <a:t>reactions</a:t>
            </a: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2626"/>
                </a:solidFill>
                <a:latin typeface="Calibri"/>
              </a:rPr>
              <a:t>Question: How do enzymes speed up reactions?</a:t>
            </a: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62626"/>
                </a:solidFill>
                <a:latin typeface="Calibri"/>
              </a:rPr>
              <a:t>Answer: They </a:t>
            </a:r>
            <a:r>
              <a:rPr b="1" lang="en-US" sz="3000" spc="-1" strike="noStrike" u="sng">
                <a:solidFill>
                  <a:srgbClr val="262626"/>
                </a:solidFill>
                <a:uFillTx/>
                <a:latin typeface="Calibri"/>
              </a:rPr>
              <a:t>lower</a:t>
            </a:r>
            <a:r>
              <a:rPr b="1" lang="en-US" sz="3000" spc="-1" strike="noStrike">
                <a:solidFill>
                  <a:srgbClr val="262626"/>
                </a:solidFill>
                <a:latin typeface="Calibri"/>
              </a:rPr>
              <a:t> activation energy, making it easier for   the chemical reaction to occur</a:t>
            </a: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41" name="Object 2" descr=""/>
          <p:cNvPicPr/>
          <p:nvPr/>
        </p:nvPicPr>
        <p:blipFill>
          <a:blip r:embed="rId1"/>
          <a:stretch/>
        </p:blipFill>
        <p:spPr>
          <a:xfrm>
            <a:off x="4778280" y="2173320"/>
            <a:ext cx="393228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4" descr=""/>
          <p:cNvPicPr/>
          <p:nvPr/>
        </p:nvPicPr>
        <p:blipFill>
          <a:blip r:embed="rId1"/>
          <a:stretch/>
        </p:blipFill>
        <p:spPr>
          <a:xfrm>
            <a:off x="2536920" y="4495680"/>
            <a:ext cx="6378480" cy="2210040"/>
          </a:xfrm>
          <a:prstGeom prst="rect">
            <a:avLst/>
          </a:prstGeom>
          <a:ln w="0">
            <a:noFill/>
          </a:ln>
        </p:spPr>
      </p:pic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nzym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228240" y="1676520"/>
            <a:ext cx="86295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Enzymes are </a:t>
            </a:r>
            <a:r>
              <a:rPr b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not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 used up in reactions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Reactants + enzyme </a:t>
            </a:r>
            <a:r>
              <a:rPr b="1" lang="en-US" sz="32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 Products + enzym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514440" indent="-5144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Enzymes are very </a:t>
            </a:r>
            <a:r>
              <a:rPr b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specific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-they usually only work on </a:t>
            </a:r>
            <a:r>
              <a:rPr b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one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 reaction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514440" indent="-51444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0000"/>
                </a:solidFill>
                <a:latin typeface="Corbel"/>
              </a:rPr>
              <a:t>Enzymes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228240" y="2133720"/>
            <a:ext cx="86295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Substrate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-the material that the enzyme works on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Active site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-The special fold in the enzyme where the reaction happens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47" name="Picture 3" descr=""/>
          <p:cNvPicPr/>
          <p:nvPr/>
        </p:nvPicPr>
        <p:blipFill>
          <a:blip r:embed="rId1"/>
          <a:stretch/>
        </p:blipFill>
        <p:spPr>
          <a:xfrm>
            <a:off x="5867280" y="4013280"/>
            <a:ext cx="27054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2:45:55Z</dcterms:created>
  <dc:creator>Owner</dc:creator>
  <dc:description/>
  <dc:language>en-US</dc:language>
  <cp:lastModifiedBy>Angela Gorney</cp:lastModifiedBy>
  <dcterms:modified xsi:type="dcterms:W3CDTF">2011-02-24T19:01:14Z</dcterms:modified>
  <cp:revision>62</cp:revision>
  <dc:subject/>
  <dc:title>Enzymes</dc:title>
</cp:coreProperties>
</file>